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76E-AE3D-4416-ABDF-019B7FBB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701-627D-4AF1-9BD1-58EBCF32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247-6074-4D10-BA6C-EBFC8DB0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532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88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532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88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C40-7216-4F80-8736-1362192E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183D-1824-423B-BBAC-24BD9E8D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679E-7117-4C0D-BBEB-C526C0FE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8AA6-72BD-4E4E-A3E9-E1981DE8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7879-50E9-4100-98A0-509B3FE0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92DB-FE85-4D66-B0C7-158F210E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77EA-ABA2-4ED8-8871-5C1304D5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3B33-DE7B-4520-AFAA-C12271E0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281-2A67-43A1-BCC7-604438A4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B49-0B17-46F7-9E49-DCC85B6F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4050-F008-456D-8F15-BB5C5C26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B5ED-98B6-4EBA-A8DF-17A5B1CD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1E8-43B7-4F1F-9642-02CE0FAB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532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888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532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888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553E-471A-46C2-B92E-3B6B713B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5CA-5B44-460A-A08D-92C87C7B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7DE-83A0-43B5-8E28-080DD32E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A6B-90C6-46DB-ADDB-EC2281A7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A01-AD92-42A8-BB27-82005B16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929-3735-49FD-BC74-E965DAEB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153-42D2-4612-B535-19D02B1B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BB3-EFEA-441B-8918-F9CF980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55B9-6298-40DA-AF82-01126691945F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46B4-58D0-4C53-8D51-07C09B69F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CS 361A </a:t>
            </a:r>
            <a:br>
              <a:rPr sz="40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Advanced Data Structures and Algorith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2514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ecture 20 (Dec 7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ata Mining: Associatio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jeev Motw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ially based on notes by Jeff Ull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0464-D5A7-4D25-A229-810741373D1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ssociation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f-then ru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ut basket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{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…,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asket h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{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…,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}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likely to hav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nf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bability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…,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p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f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43200" y="3581280"/>
                <a:ext cx="4086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28800" y="5748480"/>
                <a:ext cx="3886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652-9293-4803-BCC0-3FA26DDE07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1 = {m, c, b}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 = {m, p, j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3 = {m, b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4 = {c, j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5 = {m, p, b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6 = {m, c, b, j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7 = {c, b, j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8 = {b, 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ssociation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{m, b}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= 2/4 =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F16-2A62-4723-BA89-45367832ABF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inding Association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o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fi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ociation rules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duction to Frequent Itemset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frequent itemset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{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…,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}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-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up(X)/sup(X-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u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bser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frequ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rt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666880" y="1905120"/>
                <a:ext cx="4572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11480" y="2362320"/>
                <a:ext cx="4842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8E8-18EA-41D9-BE0C-406A91D807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mput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ata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lat Fi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ather than databas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isk, basket-by-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st Meas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umber of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isk I/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data size, avoid random seeks and do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-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in-Memory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 maintain count-table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tion on number of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-swapping count-tables is dis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5AB-624E-46BE-91C3-20D8FF2627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inding Frequent P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requent 2-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case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w, later extend to k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aï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un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al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(m–1)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ngle pa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scanning all bas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 of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ncrement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(b–1)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il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emory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&lt; m(m–1)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fo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=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5D6-F86F-4FA8-BBBB-7B2A359BFCF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ontonicity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es all known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onotonicity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2-s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33920" y="3276720"/>
                <a:ext cx="17524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⊂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62320" y="5562720"/>
                <a:ext cx="4952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90920" y="4038480"/>
                <a:ext cx="38098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8C7-28F9-4CD5-B450-AA76BD3DE2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-Priori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-Pri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-pass approach in limit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ers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ndidate 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item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 of count at least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(f-1)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ers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ndidate p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requent i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pair of frequent items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ilu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emory &lt; m + f(f–1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7CA-198A-4A01-8AFB-9BF93CDC35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emory Usage – A-Pri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905120"/>
            <a:ext cx="2057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148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680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200400"/>
            <a:ext cx="14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2160" y="205740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2960" y="198108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1905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243792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DC3-687E-4026-9BE5-12CDE93A4B2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PCY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pro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on A-Pri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bserve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ring Pass 1, memory mostly i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dle memory for hash-tabl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sh pairs from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cr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at hash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t 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bitmap of high-frequency hash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itmap extra condition for candidate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72A-3DD2-4477-9961-3F8EAA8D4EC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emory Usage – P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1905120"/>
            <a:ext cx="2057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1148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680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5840" y="205740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2960" y="198108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32760" y="35053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2438280"/>
            <a:ext cx="20574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4400" y="335268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1905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733920" y="243792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733920" y="2895120"/>
            <a:ext cx="144756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6C9-8601-45CD-8C38-0256AF114C6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ssociation Rule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arket Baskets &amp; 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requent item-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-priori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ash-bas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- or two-pass approxi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igh-correlation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441-AC24-48B3-9EB6-841A7580FD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PCY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ers and hash-ta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item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hash-table cou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item-pair i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 of count at least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as bitmap (count &gt; s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i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ou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for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s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re 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 hashes to frequent bucket (bit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candidate qualified pairs of items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EBA-9F11-478C-BC3F-268D38B358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ultistage PCY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lse positives from ha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w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 of ha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fter Pass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et list o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 Pass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ash only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pairs hash to bucke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ckets with count &gt;s, yet no pair of count &gt;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 Pass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ss likely to qualify infrequent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epe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duce memory, but more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ory &lt;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(f+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280-2577-4285-BE53-7B071DFA9D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emory Usage – Multistage P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905120"/>
            <a:ext cx="2057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252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380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0800" y="34290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438280"/>
            <a:ext cx="20574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2438280"/>
            <a:ext cx="20574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2895480"/>
            <a:ext cx="2057400" cy="457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4600" y="373392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61200" y="34290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1905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514600" y="24379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514600" y="2895120"/>
            <a:ext cx="11430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1905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5000" y="3352320"/>
            <a:ext cx="10666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1FE-88F3-44A5-BCDB-76D447F0E20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inding Larger Item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xtend to frequen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ts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noto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e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requent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only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– {X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requent for al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age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inds all frequent k-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age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gets all frequen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age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aintain counters for all candidate k-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ndid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-sets whose (k–1)-subsets are all 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tal co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mber of passes = max size of frequent item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nhancements such as PCY all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978-29BC-4628-B82C-BCD54BFBAA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pproximation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ll frequent k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o 2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lose someth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(Savasere, Omiecinski, Navathe)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ivone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6CF-0BD5-4018-9C60-79D1E57BDF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ampl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ad random sample of baskets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un A-Prior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 enhan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down support threshold                                                         (e.g., if 1% sample, use s/100 as support thres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ll frequent k-sets in memory fr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leave enough space for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counters only for frequent k-sets of rand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exact counts for candidates to val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rr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alse positives (Pass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negatives (X frequent, but not in s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8C9-4E37-4A16-A7BC-BF44B2D08A0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O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1 – Batch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data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ly fill memory with new batch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sampling algorithm on each b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candidate frequent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ndidate Items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f frequent in some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alidate candidate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notonicity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et X is frequent overal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equent in at least one b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870-3590-4489-ACA4-4CA242B0574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Toivonen’s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ower Threshold in Sampling 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f sampling 1%, use 0.008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suppor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o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overkill to avoid any false neg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gative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et X infrequent in sample, but all subsets are 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, BC, AC frequent, but ABC in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candidate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gative b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border itemsets all infrequ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didates ar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exactly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t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therwis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tart ov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chievement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duced failure probability, while keeping candidate-count low enough for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72D-FCEC-4C66-9398-3D8642FD0B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Low-Support, High-Cor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ind highly correlated pairs, even if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hi-support, for doll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ing generating process often based on hi-correlation, rather than hi-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w customers buy Ketel Vodka, but of those who do, 90% buy Beluga Cav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lagiarism, collaborative filtering,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rules of high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support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-Priori technique in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F72-5D1D-44D5-886D-F24F791AF4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atrix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parse, Boolean Matrix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c = Item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Row r = Basket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 iff ite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bask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c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p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c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p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c,b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c,b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c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3352680"/>
            <a:ext cx="449568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06F-C5D1-48A1-A59E-1E85D120B6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ssociation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 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pproximating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oint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 of process genera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P[E] for interesting event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olo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st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mpute certain summarie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try to us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interes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ces of join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fast count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A59-6E9C-42B5-A007-6270E979EF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lumn Simila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umn as row-set (where it has 1’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lumn Simi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Jaccard mea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correlated colum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ing similar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013200" y="2219400"/>
                <a:ext cx="29653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2913480" y="3733920"/>
            <a:ext cx="31755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1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2/5 = 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9AE-2AED-4BA3-BC45-0F6D331BC9C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Identifying Similar Colum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Ques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ng candidate pairs in smal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gnatur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umn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mall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gnatur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t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d by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sim(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,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aï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 rows uniformly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P bits of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sit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uld miss interesting part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would get only 0’s in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0F8-541D-49FD-8837-54DF8D291D4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Key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r columns 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ur types of 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verload not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= # of rows of typ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33560" y="5181480"/>
                <a:ext cx="3400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714-EDDF-49E9-841F-D3884FD8E10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in Has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index of first row with 1 in column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prising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r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/(A+B+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down column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til firs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n-Type-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(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= h(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type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322360" y="3657600"/>
                <a:ext cx="3583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4BF-E237-4CA1-980E-E45DB14E914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in-Hash Sign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 row per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inHash 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sig(C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list of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dexes of first rows with 1 in colum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milarity of sign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ct: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,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raction of permutations where MinHash values ag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bserv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E[sim(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,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A94-FE3F-472B-BB8D-1C698526754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66040" y="2590920"/>
            <a:ext cx="186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0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    1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0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0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    1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1447920"/>
            <a:ext cx="3639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erm 1 = (1234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2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erm 2 = (5432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4    5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erm 3 = (3451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3    5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8520" y="4191120"/>
            <a:ext cx="36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mila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-2      1-3      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ol-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.00    0.50   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ig-Si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.00    0.67    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048120"/>
            <a:ext cx="11430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2286000"/>
            <a:ext cx="12189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4952880"/>
            <a:ext cx="2514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4C6-4C60-46A8-B1C0-7CC0EA632334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Implementation Tr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ermuting 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n once is prohib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ow H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hash function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: {1,…,n}</a:t>
            </a: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{1,…,O(n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}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[Fingerpri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rde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random row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ne-pa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h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eep “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for min-hash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itial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slot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can ro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rbitrary order looking for 1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row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1 in column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&lt; slot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slot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D37-FC76-4CFB-BE1E-8CA2BB28E5C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960" y="1447920"/>
            <a:ext cx="1940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1905120"/>
            <a:ext cx="121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80060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h(x) = x mo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(x) = 2x+1 mo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3080" y="1905120"/>
            <a:ext cx="30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1) =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1)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281952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2)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2) 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3080" y="373392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3)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3)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3080" y="464832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4) =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4) =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3080" y="545940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5) 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5) =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48000" y="1295280"/>
            <a:ext cx="228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lots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lo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54864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AEF-F86D-4DEE-ADA8-8FAB46E0F24E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mparing Sign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gnature Matrix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s = Hash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 =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=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mpu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air-wise similarity of signatur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Hash fits column signature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aring signature-pairs takes too muc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ique to limit candidate pai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Priori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ocality Sensitive Hashing (L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960-EA2E-41AF-A112-058D18D52A0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Locality-Sensitive Has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r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ture matrix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s of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(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r=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nd H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: {r-columns}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{1,…,k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ndidate pai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sh to same bucket at lea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u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atch most similar pairs, few nonsimilar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220968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27432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3276720"/>
            <a:ext cx="1600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80988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6000" y="29894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143000" y="24379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143000" y="30477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3200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32004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1240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00120" y="3124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B3F-0C55-458A-A00B-02A39B6DC68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arket-Basket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arge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 = {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…, 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ducts sold in super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 = {B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…, B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ubsets of item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items bought by customer in one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rt –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up(X)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baskets with itemse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Itemse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iv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upport threshold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requent Items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ll frequent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962520" y="5029200"/>
                <a:ext cx="12952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AC6-7554-4F0F-AF9E-9EAF509FEB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100,000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gnatur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gnat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=100 h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tal 40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umber of column pai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otal 5,000,0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and-Hash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=20 bands of r=5 row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p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total 8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BC6-9068-486E-BAD6-942BAF3B260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Band-Hash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s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 =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in one band]=(0.8)^5 = 0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inct in all bands]=(1-0.33)^20 = 0.00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 1/3000 of 80%-similar column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s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 =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in one band] = (0.4)^5 = 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in &gt;0 bands] &lt; 0.01*20 = 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robability that nonidentical columns in band coll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positives much lower for similarities &lt;&lt; 4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ver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and-Hash collisions measure 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ormal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ater in near-neighbor l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604-BCE4-4131-B5EE-146B1180351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LSH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ss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ute singatur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and-Ha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o generate candidat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ss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eck similarity of candidat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SH Tu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d almost all pairs with similar signatures, but eliminate most pairs with dissimilar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45E-7FF6-45C9-A483-E98F91CA151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Densifying – Amplification of 1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nse matrices simp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ample of P rows serves as good sig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amming L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series of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ly halve rows – ORing adjacent row-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by, increas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ach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andidate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30–60% 1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n selected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9A4-0191-4D5D-AF05-36B035AD929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362320"/>
            <a:ext cx="1523880" cy="32004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2362320"/>
            <a:ext cx="1295280" cy="17524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2362320"/>
            <a:ext cx="1295280" cy="8380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15200" y="2362320"/>
            <a:ext cx="144792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9B8-4C19-4DDD-9743-BE3D9C499B3E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Using Hamming L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nstructing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row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work = twice that of reading original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sing standard L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imilar columns in each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to column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6AE-CB90-4CEB-B43F-09B56572C32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ing frequent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prior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CY (hashing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lti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ing all frequent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iv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ing similar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Hash+LSH, Hamming L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for improved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 frequency counting ideas from earlier l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plex rules (e.g. non-monotonic, neg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similar pairs to k-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valid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CC8-D0C8-4C1C-B04D-BA027035495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ining Associations between Sets of Items in Massive Databas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R. Agrawal, T. Imielinski, and A. Swami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. SIGMOD 199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ast Algorithms for Mining Association R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R. Agrawal and R. Srikant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VLDB 1994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 Effective Hash-Based Algorithm for Mining Association R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J. S. Park, M.-S. Chen, and P. S. Yu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. SIGMOD 1995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An Efficient Algorithm for Mining Association Rules in Large Databases 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 Savasere, E. Omiecinski, and S. Navathe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he VLDB Journal 1995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ampling Large Databases for Association R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H. Toivonen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VLDB 1996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ynamic Itemset Counting and Implication Rules for Market Basket Dat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S. Brin, R. Motwani, S. Tsur, and J.D. Ullman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IGMOD 1997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Query Flocks: A Generalization of Association-Rule Min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D. Tsur, J.D. Ullman, S. Abiteboul, C. Clifton, R. Motwani, S. Nestorov and A. Rosenthal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IGMOD 1998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nding Interesting Associations without Support Prun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E. Cohen, M. Datar, S. Fujiwara, A. Gionis, P. Indyk, R. Motwani, J.D. Ullman, and C. Yang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CDE 2000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ynamic Miss-Counting Algorithms: Finding Implication and Similarity Rules with Confidence Prun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 S. Fujiwara, R. Motwani, and J.D. Ullman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CDE 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805-6FF3-482C-AFDC-58DCB4AD37D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milk, coke, pepsi, beer, juice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c, 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p,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c,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p, 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c, b,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c, b, 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b, 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rt 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},  {c},  {b},  {j},  {m, b},  {c, b},  {j, 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9B2-4C93-4F94-AB50-E7043C45D4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pplication 1 (Retail Sto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al market bas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 stores keep TBs of customer purchas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ypical customers navigate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ing tempting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s “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ie-in tri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– e.g., hamburger sale while raising ketchup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igh support needed, or no $$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C22-C429-49DD-B0B6-BCE58493A2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Application 2 (Information Retrie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ords in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word-grou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inked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ocuments containing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sentence-grou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ossible plagia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4B1-35B0-4F03-9AD9-6941BED894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pplication 3 (Web Sear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outgo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ges with similar re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sam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eb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com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ges with similar in-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rrors, or sam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8F9-AFB1-43D3-88A7-A5C0809FBE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cale of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alM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s m=100,000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n=1,000,000,000 bas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billion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new “word”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 enough for small amount of memory per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 large for memory pe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k-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 large for memory per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ry sparse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are for item to be in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F62-ECE2-4650-991D-A986467A38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4:05:20Z</dcterms:created>
  <dc:creator>Mayur Datar</dc:creator>
  <dc:description/>
  <dc:language>en-US</dc:language>
  <cp:lastModifiedBy>cs</cp:lastModifiedBy>
  <dcterms:modified xsi:type="dcterms:W3CDTF">2005-11-29T00:57:18Z</dcterms:modified>
  <cp:revision>272</cp:revision>
  <dc:subject/>
  <dc:title>CS 361A (Advanced Algorithms)</dc:title>
</cp:coreProperties>
</file>