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25B-F695-4468-9E10-BD635B3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2C8-A654-4204-BC68-EBBFF51D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4D3-4F49-4F46-89ED-6A0C162A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32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88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532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88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4B7-9DD8-4170-A24B-2EE34B3D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2AE-96F7-4F94-93A5-FEACDDAA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C6FA-7F19-4D55-A014-35C768B5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BF24-C4B5-4CB7-8DC9-BF6EF21D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519C-2BAC-41EB-80FC-122799B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63C3-4ED3-44E5-86E0-6EBCE08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CABB-93B9-4089-A2AC-43A7C06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D2BF-8D00-4F34-B66F-4797371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8C3-D9A1-4DC9-AD87-CF39A589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1571-5F3A-48CE-B52C-EC3DE3B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B773-E379-40E5-BBA8-6E764C9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AD7D-3741-4316-BEDB-B766A6C2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DC86-F31C-451A-BDF7-A5C15A89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532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888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532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888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E26A-593D-45D7-9AEA-635D59A4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A43-5DD9-46A8-93C7-92749C0A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1E6-1216-4119-84A3-720A32AF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669-4913-4E4D-8ED3-FB843157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C92-6D96-4104-98E9-61148A0E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BFD-9F98-4AFF-97C8-6887410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892-6011-437B-B145-D8420B8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D5A-04D6-468E-B048-B5112E8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8E5-418E-4822-A165-C243F23E8FE5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E8BE-AB5F-477A-8678-2818AA0E7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CS 361A </a:t>
            </a:r>
            <a:br>
              <a:rPr sz="40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Advanced Data Structures and Algorith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cture 20 (Dec 7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a Mining: Associ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jeev Motw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ially based on notes by Jeff Ull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0056-A878-4594-9968-2CC1CBCB946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f-then r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basket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…,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asket h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{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…,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likely to hav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bability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…,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p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43200" y="3581280"/>
                <a:ext cx="4086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28800" y="574848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D61-40DE-4592-AC48-23CE07A477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1 = {m, c, b}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 = {m, p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3 = {m, b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4 = {c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5 = {m, p, b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6 = {m, c, b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7 = {c, b, j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8 = {b, 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sociatio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m, b}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= 2/4 =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236-2791-43D8-836A-9C3CA8874A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fi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ociation rules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duction to Frequent Itemset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frequent itemset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{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…,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-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/sup(X-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frequ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rt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66880" y="1905120"/>
                <a:ext cx="457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1480" y="2362320"/>
                <a:ext cx="484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80A-DECE-4A1D-9F8E-883114101B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put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lat Fi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ther than databas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sk, basket-by-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t 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umber of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sk I/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data size, avoid random seeks and d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-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in-Memory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maintain count-tabl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 on number of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-swapping count-tables is dis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8A7-BAEC-4515-94AD-2B843AD277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Frequent P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equent 2-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case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w, later extend to k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aï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l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(m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ngle p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scanning all bas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 of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cremen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(b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il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&lt; m(m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fo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=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B74-11C9-4693-B502-E6C3B0FBF2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ontonicity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es all known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notonicity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2-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33920" y="3276720"/>
                <a:ext cx="17524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5562720"/>
                <a:ext cx="4952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0920" y="4038480"/>
                <a:ext cx="3809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FEE-14BA-4B13-A32E-A746C0F772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-Priori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-Pri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-pass approach in limi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 of count at least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(f-1)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requent i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pair of frequent items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ilu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&lt; m + f(f–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664-B564-47A2-A70D-B73FAD2379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A-Pri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0040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2160" y="205740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2960" y="198108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243792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537-3BFC-4D80-A151-63612404FAC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CY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ro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on A-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e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Pass 1, memory mostly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dle memory for hash-tabl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h pairs from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cr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at hash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t 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bitmap of high-frequency hash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itmap extra condition for candidate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519-77D1-4214-B99F-B72250435A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P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1148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6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5840" y="205740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2960" y="198108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2760" y="35053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4400" y="335268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33920" y="243792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733920" y="2895120"/>
            <a:ext cx="144756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73C-A695-46A1-AB5E-FE4972781CA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ket Baskets &amp; 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equent item-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-priori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sh-bas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- or two-pass approxi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-correlation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A95-A944-402C-86C4-6CF4768845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CY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and hash-ta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hash-table 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-pair i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 of count at least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as bitmap (count &gt; 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for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hashes to frequent bucket (bit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andidate qualified pairs of items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D8F-345F-4D0F-BBB8-DC4A0294E4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ultistage PCY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lse positives from ha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w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 of h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fter Pas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t list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 Pass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ash only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pairs hash to bucke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ckets with count &gt;s, yet no pair of count &gt;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 Pass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ss likely to qualify infrequent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epe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duce memory, but mor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ory &lt;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(f+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4DE-9127-422C-8EDB-4D194BFBAF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Multistage P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252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3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0800" y="34290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2895480"/>
            <a:ext cx="2057400" cy="457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4600" y="373392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1200" y="34290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514600" y="24379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14600" y="2895120"/>
            <a:ext cx="1143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5000" y="3352320"/>
            <a:ext cx="1066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7E3-5C2C-41D3-957E-ED68AF81607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Larger Item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xtend to frequen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ts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noto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requent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only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– {X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requent for al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inds all frequent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gets all frequen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aintain counters for all candidate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-sets whose (k–1)-subsets are all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c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mber of passes = max size of frequent item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nhancements such as PCY a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D2A-D5AA-4DDB-A484-F60827C8B1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roximation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ll frequent k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lose someth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(Savasere, Omiecinski, Navathe)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vone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34B-CFDF-4C71-BFE6-45EBFA8032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ampl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ad random sample of baskets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 A-Prior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enhan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down support threshold                                                         (e.g., if 1% sample, use s/100 as support thres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ll frequent k-sets in memory fr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eave enough space for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counters only for frequent k-sets of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exact counts for candidates to 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rr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alse positives (Pass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negatives (X frequent, but not in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9F7-9DC5-4ADB-8C17-DC2A5009F2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O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 – 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data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fill memory with new batch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sampling algorithm on each 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candidate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didate Item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f frequent in some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alidate candidate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notonicity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X is frequent over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equent in at least one 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3AB-B3A0-41F2-82AB-11F2E8D38A7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Toivonen’s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er Threshold in Sampling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sampling 1%, use 0.008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suppor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o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verkill to avoid any false neg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gative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X infrequent in sample, but all subsets are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, BC, AC frequent, but ABC in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candidate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gative b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border itemsets all infrequ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didates ar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exactly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therwis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tart ov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hievement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duced failure probability, while keeping candidate-count low enough for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C04-51D9-4AE5-B5C1-BA4232CF57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ow-Support, High-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ind highly correlated pairs, even if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hi-support, for doll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ng generating process often based on hi-correlation, rather than hi-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w customers buy Ketel Vodka, but of those who do, 90% buy Beluga Cav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lagiarism, collaborative filtering,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rules of high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support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-Priori technique in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D3C-8CAA-48F8-ACE5-3C745A5BEE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atrix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parse, Boolean Matrix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c = Item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ow r = Basket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f i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bask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c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p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p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c,b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b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352680"/>
            <a:ext cx="449568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846-04B3-4A56-8918-D6FFC796DC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pproximat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of process genera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P[E] for interesting event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st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certain summari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try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ntere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ces of join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fast count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881-2D07-43D2-A1FE-CBCC46AF07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lumn 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umn as row-set (where it has 1’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lumn Simi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Jaccard mea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orrelated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ing similar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3200" y="2219400"/>
                <a:ext cx="29653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2913480" y="3733920"/>
            <a:ext cx="31755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1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2/5 = 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64A-D7A0-4ACB-AB55-CEA97E983EF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dentifying Similar Colum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s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ng candidate pairs in smal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tur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umn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mall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gnatu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t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d by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sim(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aï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 rows uniformly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 bits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miss interesting part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would get only 0’s in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715-E424-45F8-BF7D-E3B64B3679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Key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r columns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r types of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verload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= # of rows of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33560" y="5181480"/>
                <a:ext cx="3400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3F8-4DDA-4F17-BB9A-C092FFA5F76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in Ha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index of first row with 1 in colum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prising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/(A+B+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down column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til firs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n-Type-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(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= h(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type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322360" y="3657600"/>
                <a:ext cx="3583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AD5-437B-4101-9DCC-95E7F92E2D2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in-Hash Sign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row per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inHash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ig(C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list of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xes of first rows with 1 in colum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milarity of sign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ct: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raction of permutations where MinHash values ag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E[sim(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AD2-BF7A-48EA-B5CC-03543553C0C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66040" y="2590920"/>
            <a:ext cx="186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    1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    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447920"/>
            <a:ext cx="3639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1 = (1234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2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2 = (5432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4    5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3 = (3451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3    5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520" y="4191120"/>
            <a:ext cx="36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-2      1-3      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ol-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.00    0.50   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g-Si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.00    0.67    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48120"/>
            <a:ext cx="1143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286000"/>
            <a:ext cx="1218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4952880"/>
            <a:ext cx="2514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FBB-B2F9-4FFF-A1D0-D2540E576EB9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mplementation Tr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muting 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 once is prohib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ow H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hash function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: {1,…,n}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{1,…,O(n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}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[Fingerpri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random row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ne-pa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eep “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for min-hash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iti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slot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can ro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rbitrary order looking for 1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row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1 in column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&lt; slot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slot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025-E893-4918-A014-8D01FFA7EA6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960" y="1447920"/>
            <a:ext cx="1940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905120"/>
            <a:ext cx="121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80060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h(x) = x mo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(x) = 2x+1 mo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3080" y="190512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1) =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1)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28195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2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2)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3080" y="37339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3)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3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3080" y="46483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4) =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4) =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3080" y="545940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5)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5) =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48000" y="1295280"/>
            <a:ext cx="228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lots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lo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4864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063-38B1-4FB6-B2BD-930567B4FB0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paring Sign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tur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s = Hash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 =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=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mp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air-wise similarity of signatur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Hash fits column signatur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ing signature-pairs takes too mu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ique to limit candidate pai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Priori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cality Sensitive Hashing (L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439-40E8-458B-B104-970156E1875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ocality-Sensitive Ha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ture matrix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s of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(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r=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nd H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: {r-columns}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1,…,k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didate p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h to same bucket at lea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u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atch most similar pairs, few nonsimila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7432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3276720"/>
            <a:ext cx="1600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6000" y="29894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143000" y="24379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2004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1240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00120" y="3124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DCA-563D-4725-B052-517F8E80699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arket-Baske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arg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 = {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…,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ducts sold in su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 = {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…, 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ubsets of item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tems bought by customer in on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rt 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baskets with item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Itemse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upport threshold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requent Item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ll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62520" y="5029200"/>
                <a:ext cx="1295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F9C-EAA6-4852-A5B1-E32A281891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00,000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gnatur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gnat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=100 h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tal 40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umber of column pai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otal 5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nd-Has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=20 bands of r=5 row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otal 8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55D-50DE-487B-A101-E9188B63CF2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Band-Hash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 =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one band]=(0.8)^5 = 0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inct in all bands]=(1-0.33)^20 = 0.00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 1/3000 of 80%-similar colum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 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one band] = (0.4)^5 =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&gt;0 bands] &lt; 0.01*20 = 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bability that nonidentical columns in band col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positives much lower for similarities &lt;&lt;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ver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and-Hash collisions measur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rmal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ater in near-neighbor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A74-D8AA-4FEE-B756-4C08DCF5114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SH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ute singatur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nd-H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o generate candidat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eck similarity of candidat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SH Tu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d almost all pairs with similar signatures, but eliminate most pairs with dissimilar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C72-03DA-4694-BAEE-AC87DBAB81F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ensifying – Amplification of 1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nse matrices simp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ample of P rows serves as good sig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mming L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series of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halve rows – ORing adjacent row-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by, increas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ach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andidate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30–60% 1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selected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01F-538A-476C-95C4-5B6DE4B3FB0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362320"/>
            <a:ext cx="1523880" cy="3200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362320"/>
            <a:ext cx="1295280" cy="17524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362320"/>
            <a:ext cx="1295280" cy="8380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2362320"/>
            <a:ext cx="144792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A23-BF9C-4886-AF91-DEDD22CB451C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Using Hamming L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structing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row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work = twice that of reading original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sing standard L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imilar columns in each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o column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E66-135C-468D-8B4E-07949145413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frequent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prior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CY (hashin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lti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all 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iv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simila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Hash+LSH, Hamming L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for improved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frequency counting ideas from earlier 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plex rules (e.g. non-monotonic, neg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similar pairs to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valid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18B-4A00-4B13-8BBA-7E9FF539E74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ining Associations between Sets of Items in Massive Databas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. Agrawal, T. Imielinski, and A. Swami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. SIGMOD 199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ast Algorithms for Mining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. Agrawal and R. Srikant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VLDB 1994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 Effective Hash-Based Algorithm for Mining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J. S. Park, M.-S. Chen, and P. S. Yu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. SIGMOD 199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An Efficient Algorithm for Mining Association Rules in Large Databases 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 Savasere, E. Omiecinski, and S. Navathe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he VLDB Journal 1995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ampling Large Databases for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H. Toivone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VLDB 199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ynamic Itemset Counting and Implication Rules for Market Basket Dat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S. Brin, R. Motwani, S. Tsur, and J.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MOD 1997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Query Flocks: A Generalization of Association-Rule Mi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D. Tsur, J.D. Ullman, S. Abiteboul, C. Clifton, R. Motwani, S. Nestorov and A. Rosenthal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MOD 1998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nding Interesting Associations without Support Pru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E. Cohen, M. Datar, S. Fujiwara, A. Gionis, P. Indyk, R. Motwani, J.D. Ullman, and C. Yang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CDE 2000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ynamic Miss-Counting Algorithms: Finding Implication and Similarity Rules with Confidence Pru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 S. Fujiwara, R. Motwani, and J.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CDE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041-CD06-4D9F-BE2D-CEB39B0381B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milk, coke, pepsi, beer, juic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c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p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c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p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c, b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c, b, 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b, 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rt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},  {c},  {b},  {j},  {m, b},  {c, b},  {j, 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874-59C6-485D-A448-A221B6E07D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lication 1 (Retail Sto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al market ba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 stores keep TBs of customer purchas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ypical customers navigat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ing tempting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s 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ie-in tri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– e.g., hamburger sale while raising ketchup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 support needed, or no $$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755-71E8-4B73-A170-84C142EFD1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Application 2 (Information Retrie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ord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word-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nked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ocuments containing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sentence-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ssible plagia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989-F85B-4620-A209-7313569292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lication 3 (Web Sear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ges with similar 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sam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eb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com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ges with similar in-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rrors, or sam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E78-07D7-4CF5-BE5F-279B393C4A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cale of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alM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s m=100,000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n=1,000,000,000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billion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ew “word”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 enough for small amount of memory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for memory p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-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for memory pe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y sparse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are for item to be in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D6D-5E51-4EB2-A391-E8FFFF8C43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4:05:20Z</dcterms:created>
  <dc:creator>Mayur Datar</dc:creator>
  <dc:description/>
  <dc:language>en-US</dc:language>
  <cp:lastModifiedBy>cs</cp:lastModifiedBy>
  <dcterms:modified xsi:type="dcterms:W3CDTF">2005-11-29T00:57:18Z</dcterms:modified>
  <cp:revision>272</cp:revision>
  <dc:subject/>
  <dc:title>CS 361A (Advanced Algorithms)</dc:title>
</cp:coreProperties>
</file>