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68C-D913-4463-85B7-7AF2006C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83B-BE6E-4501-A48E-83739A8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502-68B6-4280-8A7A-9C186C6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32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88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532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88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D2D-9BAF-4CDD-9911-7CDA08D6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D43D-4D0A-417C-9E0F-2989C785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E646-D837-48B3-BD86-22ED00AD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3969-269C-499B-B617-EDD746D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07E2-6DD9-425D-A0A4-81D8E8D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C74D-3075-4E88-8968-3D6BA5AC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2D0-40C6-464C-8770-5C0043CC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518F-A76A-49AA-A748-7BE2310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3EB-3C46-460F-A7BA-80377A0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336-F129-4E8E-BC81-665C4C0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A775-726B-4621-9F56-1CF9C63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CC8-892D-4BEC-B828-43638F6F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DF67-371F-4A6C-B45A-09F3619E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532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8880" y="129492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532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8880" y="3882600"/>
            <a:ext cx="252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778-461A-4AD5-A9F7-9B6FEFCE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9FA-2ABC-4A92-BBCB-7ADF033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F30-F1CF-412A-813D-458A57AD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5DC-EECA-46A0-A7F0-4418C2A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C76-7099-4D29-9D7B-59F9F1F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36F-6B42-46D4-B022-860982D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3320" y="388260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1A5-F56B-4E7A-B5F4-A8D7B54A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294920"/>
            <a:ext cx="3829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82600"/>
            <a:ext cx="7848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AEB-64FA-4A6D-B00A-C2ED0AB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313-1E90-455F-8130-ABC82F51B112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EB8-BD31-44B2-BF17-DE770F2B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CS 361A </a:t>
            </a:r>
            <a:br>
              <a:rPr sz="40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Advanced Data Structures and Algorith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cture 20 (Dec 7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Data Mining: Associ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jeev Motw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ially based on notes by Jeff Ull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2949-25DD-45EC-80A9-DF25CD2EB12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f-then r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basket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…,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asket h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{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…,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likely to hav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bability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…,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p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f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43200" y="3581280"/>
                <a:ext cx="4086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28800" y="574848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57C-9E87-49BF-848F-7F670ACBDC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1 = {m, c, b}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 = {m, p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3 = {m, b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4 = {c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5 = {m, p, b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6 = {m, c, b, j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7 = {c, b, j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8 = {b, 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sociatio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m, b}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= 2/4 =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16D-5666-412E-A373-1D3B415B35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fi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ociation rules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duction to Frequent Itemset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frequent itemset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={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…,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-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/sup(X-A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frequ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rt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66880" y="1905120"/>
                <a:ext cx="457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1480" y="2362320"/>
                <a:ext cx="4842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A24-458B-4A3E-97AA-7BF0CF81B3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put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lat Fi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ther than databas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sk, basket-by-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t Mea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umber of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sk I/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data size, avoid random seeks and d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-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in-Memory Bottle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maintain count-tabl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ation on number of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-swapping count-tables is dis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E15-3314-43F5-BEBA-F71CE28A57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Frequent P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equent 2-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case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w, later extend to k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aï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l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(m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ngle p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scanning all bas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 of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cremen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(b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il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&lt; m(m–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fo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=1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435-A4A0-4E16-B054-126BE21BA3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ontonicity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es all known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notonicity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2-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33920" y="3276720"/>
                <a:ext cx="17524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⊂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5562720"/>
                <a:ext cx="4952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0920" y="4038480"/>
                <a:ext cx="38098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836-7D19-4B2A-9149-5E6C3DB486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-Priori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-Pri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-pass approach in limi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 of count at least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(f-1)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 pai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frequent i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pair of frequent items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ilu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emory &lt; m + f(f–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749-70EF-499A-B356-32B48F609B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A-Pri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20040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2160" y="205740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2960" y="198108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243792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3CD-E8F8-4BFD-AE28-2815D2F3FF6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CY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pro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on A-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bserve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Pass 1, memory mostly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dle memory for hash-tabl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h pairs from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ncr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at hash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t 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bitmap of high-frequency hash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itmap extra condition for candidate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CC7-72AE-4E16-BA74-EDC60B77B6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P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1148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6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5840" y="205740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2960" y="1981080"/>
            <a:ext cx="51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32760" y="35053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4400" y="335268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1905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33920" y="2437920"/>
            <a:ext cx="1447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733920" y="2895120"/>
            <a:ext cx="144756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75B-239F-4938-BD5A-16E86DFE1DD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ket Baskets &amp; 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equent item-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-priori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sh-bas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- or two-pass approxi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-correlation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C2A-12CE-438E-9D86-FAC352F08F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PCY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s and hash-ta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hash-table 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item-pair i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 of count at least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as bitmap (count &gt; 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for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hashes to frequent bucket (bit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near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crement coun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candidate qualified pairs of items i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D54-A14A-41FB-86BA-FF1F1C0CCE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ultistage PCY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lse positives from ha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w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 of h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fter Pas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t list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 Pass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ash only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pairs hash to bucke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ckets with count &gt;s, yet no pair of count &gt;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 Pass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ss likely to qualify infrequent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epe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duce memory, but more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ory &lt;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(f+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324-5F51-4840-8258-12012243AE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emory Usage – Multistage P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905120"/>
            <a:ext cx="2057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252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3800" y="5257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0800" y="34290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1905120"/>
            <a:ext cx="2057400" cy="312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905120"/>
            <a:ext cx="20574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2438280"/>
            <a:ext cx="2057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2895480"/>
            <a:ext cx="2057400" cy="4572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ma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4600" y="373392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61200" y="34290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514600" y="24379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14600" y="2895120"/>
            <a:ext cx="1143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5000" y="3352320"/>
            <a:ext cx="1066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E23-E137-4810-92F2-2C5A4ECCD66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inding Larger Item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xtend to frequen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ts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noto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requent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only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– {X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requent for al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inds all frequent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gets all frequen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tage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aintain counters for all candidate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ndid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-sets whose (k–1)-subsets are all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c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mber of passes = max size of frequent item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nhancements such as PCY all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253-AFB7-4982-B797-57C706005D5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roximation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ll frequent k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 2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lose someth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(Savasere, Omiecinski, Navathe)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ivone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6E7-394A-4D11-B04C-BE41B270F9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ampl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ad random sample of baskets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un A-Prior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enhan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down support threshold                                                         (e.g., if 1% sample, use s/100 as support thres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ll frequent k-sets in memory fr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eave enough space for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counters only for frequent k-sets of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exact counts for candidates to 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rr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alse positives (Pass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negatives (X frequent, but not in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3B2-8CBE-45DA-ABF3-A2983C2FCE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O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1 – 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data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ly fill memory with new batch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sampling algorithm on each 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candidate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didate Items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f frequent in some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alidate candidate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onotonicity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X is frequent over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equent in at least one 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F13-5EE9-4E48-8069-8EFCBF04EDB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Toivonen’s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ower Threshold in Sampling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sampling 1%, use 0.008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suppor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o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verkill to avoid any false neg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gative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et X infrequent in sample, but all subsets are 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, BC, AC frequent, but ABC infrequ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candidate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gative b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border itemsets all infrequ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didates ar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exactly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therwis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tart ov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hievement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duced failure probability, while keeping candidate-count low enough for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A04-E3E1-4191-BBB1-877AD3FE4D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ow-Support, High-Cor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ind highly correlated pairs, even if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hi-support, for doll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ng generating process often based on hi-correlation, rather than hi-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w customers buy Ketel Vodka, but of those who do, 90% buy Beluga Cav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lagiarism, collaborative filtering,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rules of high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support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-Priori technique in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A35-EEDD-491D-89B1-86C8AEE69B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atrix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parse, Boolean Matrix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c = Item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Row r = Basket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f i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bask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c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p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p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m,c,b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b,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={c,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3352680"/>
            <a:ext cx="449568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352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99F-A990-4FDA-9382-47F0B862AA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ssociation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pproximat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of process genera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P[E] for interesting event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st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mpute certain summari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try to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ntere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ces of join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fast count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BB0-DF4D-4A19-BDB7-8253EA3993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lumn Simila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lumn as row-set (where it has 1’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lumn Simi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Jaccard mea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correlated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ing similar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3200" y="2219400"/>
                <a:ext cx="29653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∪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2913480" y="3733920"/>
            <a:ext cx="31755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1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= 2/5 = 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52A-A110-4E88-9692-2E2313F561D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dentifying Similar Colum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s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ng candidate pairs in smal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tur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umn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mall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gnatu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t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d by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sim(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aï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 rows uniformly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ig(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 bits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miss interesting part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would get only 0’s in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197-38FB-4122-973C-16D8AE40D5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Key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r columns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r types of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verload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= # of rows of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33560" y="5181480"/>
                <a:ext cx="3400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1C5-290B-4CD0-B93C-160B6951A55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in Ha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index of first row with 1 in column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prising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/(A+B+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down column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til firs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n-Type-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(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= h(C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type A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322360" y="3657600"/>
                <a:ext cx="3583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679-6DAE-4B08-8180-BC1F6CA3777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in-Hash Sign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row per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inHash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sig(C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list of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xes of first rows with 1 in column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milarity of sign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act: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raction of permutations where MinHash values ag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E[sim(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sig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F86-9C04-4ECC-9D77-C3F331ED8CA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66040" y="2590920"/>
            <a:ext cx="186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    1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0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    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1447920"/>
            <a:ext cx="3639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1 = (1234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    2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2 = (5432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4    5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erm 3 = (3451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3    5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8520" y="4191120"/>
            <a:ext cx="36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-2      1-3      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ol-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.00    0.50   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g-Si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.00    0.67    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048120"/>
            <a:ext cx="1143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286000"/>
            <a:ext cx="1218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4952880"/>
            <a:ext cx="2514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461-C970-4947-A52B-6998B4739E1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Implementation Tr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ermuting 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 once is prohib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ow H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i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hash function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: {1,…,n}</a:t>
            </a:r>
            <a:r>
              <a:rPr b="0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{1,…,O(n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)}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[Fingerpri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random row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ne-pa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eep “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for min-hash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iti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slot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can ro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rbitrary order looking for 1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row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1 in column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&lt; slot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slot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96F-C1F0-4EDA-ACE3-683FFF28515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960" y="1447920"/>
            <a:ext cx="1940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1905120"/>
            <a:ext cx="1219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80060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h(x) = x mo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(x) = 2x+1 mo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3080" y="1905120"/>
            <a:ext cx="30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1) =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1)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28195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2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2)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3080" y="37339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3)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3)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3080" y="464832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4) =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4) =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3080" y="5459400"/>
            <a:ext cx="30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5) =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5) =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48000" y="1295280"/>
            <a:ext cx="228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lots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lo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4864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249-66D6-4A35-81D3-E22F20D708B8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mparing Sign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gnature Matrix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s = Hash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 =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=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mp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air-wise similarity of signatur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Hash fits column signatures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ing signature-pairs takes too mu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chnique to limit candidate pai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Priori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cality Sensitive Hashing (L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B97-1039-421B-9151-2EC4948B6C1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ocality-Sensitive Has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ture matrix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s of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(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r=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nd H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: {r-columns}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{1,…,k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didate p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h to same bucket at lea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u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atch most similar pairs, few nonsimila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2096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7432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3276720"/>
            <a:ext cx="1600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6000" y="29894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143000" y="24379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2004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1240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00120" y="3124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63C-1193-4794-A6E1-8B83DC4FFF4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Market-Baske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arg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 = {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…, A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ducts sold in su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aske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 = {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…, B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subsets of item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tems bought by customer in one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rt 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(X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baskets with item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Itemse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iv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upport threshold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requent Item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ll frequent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62520" y="5029200"/>
                <a:ext cx="1295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02C-7CE3-4044-8510-8C2FEB7593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100,000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gnatur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ignat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=100 h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tal 40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umber of column pai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otal 5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nd-Has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=20 bands of r=5 row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otal 8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19E-5D94-4904-9365-9DB7D22B7CC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Band-Hash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 =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one band]=(0.8)^5 = 0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stinct in all bands]=(1-0.33)^20 = 0.00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 1/3000 of 80%-similar column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s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m(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 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one band] = (0.4)^5 =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[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in &gt;0 bands] &lt; 0.01*20 = 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obability that nonidentical columns in band coll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 positives much lower for similarities &lt;&lt; 4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ver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and-Hash collisions measur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ormal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ater in near-neighbor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4C0-8113-4A8A-955F-8A559DE6EA4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LSH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ss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mpute singatur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nd-H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o generate candidat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ass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eck similarity of candidat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SH Tu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d almost all pairs with similar signatures, but eliminate most pairs with dissimilar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EDA-8646-4EA6-BE1B-C008B1BF9AB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ensifying – Amplification of 1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nse matrices simp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ample of P rows serves as good sig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mming L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series of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halve rows – ORing adjacent row-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by, increas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ach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andidate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30–60% 1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in selected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CF9-F006-4A2E-B3B0-60191E69B7E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362320"/>
            <a:ext cx="1523880" cy="3200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362320"/>
            <a:ext cx="1295280" cy="17524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362320"/>
            <a:ext cx="1295280" cy="8380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200" y="2362320"/>
            <a:ext cx="144792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DF9-38B5-4B7C-99B5-94EA53AFE638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Using Hamming L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structing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row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work = twice that of reading original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sing standard L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imilar columns in each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to column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B87-8EA3-4FA8-818C-DA8D2E169BA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frequent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prior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CY (hashin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lti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all 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iv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inding similar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Hash+LSH, Hamming L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for improved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frequency counting ideas from earlier 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plex rules (e.g. non-monotonic, neg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similar pairs to k-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valid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331-EAC9-4545-9B96-6F46034F3F1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ining Associations between Sets of Items in Massive Databas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. Agrawal, T. Imielinski, and A. Swami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. SIGMOD 199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ast Algorithms for Mining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R. Agrawal and R. Srikant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VLDB 1994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 Effective Hash-Based Algorithm for Mining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J. S. Park, M.-S. Chen, and P. S. Yu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. SIGMOD 1995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An Efficient Algorithm for Mining Association Rules in Large Databases 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. Savasere, E. Omiecinski, and S. Navathe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he VLDB Journal 1995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ampling Large Databases for Association R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H. Toivone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VLDB 1996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ynamic Itemset Counting and Implication Rules for Market Basket Dat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S. Brin, R. Motwani, S. Tsur, and J.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MOD 1997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Query Flocks: A Generalization of Association-Rule Mi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D. Tsur, J.D. Ullman, S. Abiteboul, C. Clifton, R. Motwani, S. Nestorov and A. Rosenthal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SIGMOD 1998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nding Interesting Associations without Support Pru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E. Cohen, M. Datar, S. Fujiwara, A. Gionis, P. Indyk, R. Motwani, J.D. Ullman, and C. Yang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CDE 2000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ynamic Miss-Counting Algorithms: Finding Implication and Similarity Rules with Confidence Prun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 S. Fujiwara, R. Motwani, and J.D. Ullman.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CDE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07F-B21D-4B8A-A5A7-D28A723EAA1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milk, coke, pepsi, beer, juic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c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p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c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p, b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m, c, b, 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c, b, j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b, 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upport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item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},  {c},  {b},  {j},  {m, b},  {c, b},  {j, 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9EC-61B9-41AD-8B8A-FCF6C56752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lication 1 (Retail Sto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al market ba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 stores keep TBs of customer purchas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al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ypical customers navigat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ing tempting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s 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ie-in tri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– e.g., hamburger sale while raising ketchup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igh support needed, or no $$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7F1-6B5B-4309-8237-0C990A2121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Application 2 (Information Retrie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ord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word-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inked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ocuments containing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equent sentence-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ssible plagia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969-A200-492C-9BC7-B376CDDC08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Application 3 (Web Sear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ges with similar 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sam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349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enari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ask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eb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com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ges with similar in-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rrors, or sam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665-A174-477D-882E-080FD7A0EB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Scale of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alM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s m=100,000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n=1,000,000,000 bas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billion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ew “word”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300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 enough for small amount of memory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for memory p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-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 large for memory per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y sparse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are for item to be in 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D40-EECA-4544-BADA-9F4541ABF3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 361A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4:05:20Z</dcterms:created>
  <dc:creator>Mayur Datar</dc:creator>
  <dc:description/>
  <dc:language>en-US</dc:language>
  <cp:lastModifiedBy>cs</cp:lastModifiedBy>
  <dcterms:modified xsi:type="dcterms:W3CDTF">2005-11-29T00:57:18Z</dcterms:modified>
  <cp:revision>272</cp:revision>
  <dc:subject/>
  <dc:title>CS 361A (Advanced Algorithms)</dc:title>
</cp:coreProperties>
</file>